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FFE-AC98-4CA3-8259-E4F49EFF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F19-BD4D-4517-B4A8-0783FCE4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68D-B6BD-4227-B4DD-816F286C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1E0-3139-4669-9165-19A32AA2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4324-FB3E-47AF-ABEE-2E22C5B8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37B9-3DE9-4E0C-8A6C-80696CCC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A595-45E5-474F-B655-C1BB394D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751C-9CA9-40D8-BCBA-915ACD9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A198-469F-46BE-957E-F3B787AA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9287-ED19-42DA-A8D8-996AFE97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C396-C2EA-4D99-AF8E-92FA9770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2DD-F89F-4AD7-85EB-22E84195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DCB0-AD0D-481F-8647-2AA83F0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674B-4674-4F5E-A4DA-468F0BE4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1297-600C-4CEC-882A-F5C57B9F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D601-79F6-4138-9E21-299683CD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9095-8ABA-4716-99A0-BFC499A8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3FE-4353-413A-87B3-D2A64D42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B5E-A07E-4D51-8EA7-F3281F45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BD7-8F7D-41B2-A595-824504E4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197-3D78-4D21-8B07-9CA465E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13C-5443-47AF-ABD6-8A56621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5AC-E4C3-464B-88CB-80785C4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DC3-E76F-4D7A-B3DB-E36CF53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37E3-AF3B-462B-8CE3-025C5DBAD6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7272-9A32-4B89-B1EB-EFAB6C5B2E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Тайна воды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студентка 143 группы Сенькина Анна Леонидо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тапы и сроки проведения проект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: </a:t>
            </a:r>
            <a:r>
              <a:rPr b="0" lang="ru-RU" sz="4100" spc="-1" strike="noStrike">
                <a:solidFill>
                  <a:srgbClr val="ffffff"/>
                </a:solidFill>
                <a:latin typeface="Tahoma"/>
              </a:rPr>
              <a:t>Знакомство с научными статьями и  исследованиями по данной теме.(2 часа).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10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: </a:t>
            </a:r>
            <a:r>
              <a:rPr b="0" lang="ru-RU" sz="4100" spc="-1" strike="noStrike">
                <a:solidFill>
                  <a:srgbClr val="ffffff"/>
                </a:solidFill>
                <a:latin typeface="Tahoma"/>
              </a:rPr>
              <a:t>Демонстрация самостоятельной деятельности учащихся.(1 час).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кружево будто одеты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еревья, кусты, провода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кажется сказкою это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се это просто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езбрежная ширь океана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тихая заводь пруд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аскад водопада и брызги фонтан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 сущности это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окие волны вздыма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ушует морская вода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топит, и губит, игра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ольшие морские су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т белым легли покрывалом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землю родную снега…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время придет – все растает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будет прост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пп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ый предм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 10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знает уникума планеты Земл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ые вопро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крыто в замерзшей в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воду называют «жидким золотом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камень обливается пот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чебны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ми важнейшими физическими свойствами обладает в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даже в лютую зиму вода в водоемах не промерзает до дна? Какое это имеет значение для живой природ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чего сделан лед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снежин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тличаются снежинки и кристаллы ль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связаны пар и в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насыщенный пар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идактические цел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ь понятие об атмосферной и относительной влажности воздуха и их определений, а так же познакомиться с составом атмосферы Земли и Солнечной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, проанализировать и расширить знания учащихся о воде, ее роли в живой и неживой природе, в жизни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ь представление о характерных признаках зимы в неживой природ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ывать бережное отношение к природе; прививать любовь к русской природ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вать видение прекрасного во всём, что нас окруж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езультаты представления исследован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: «Что сокрыто в замерзшей воде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бликация: Почему вода – «жидкое золото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2:56:26Z</dcterms:created>
  <dc:creator>26091</dc:creator>
  <dc:description/>
  <dc:language>en-US</dc:language>
  <cp:lastModifiedBy>26091</cp:lastModifiedBy>
  <dcterms:modified xsi:type="dcterms:W3CDTF">2010-06-03T13:44:55Z</dcterms:modified>
  <cp:revision>24</cp:revision>
  <dc:subject/>
  <dc:title>Вода – это жизнь!</dc:title>
</cp:coreProperties>
</file>